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ED1E2-0A79-4538-BEA6-F6EA62657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95657-643F-42E0-9648-70A2002C5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5D258-393E-4D8F-9736-5B5A2745D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B9BB-EB7C-47C7-91C2-3CDC3C182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38242-72AF-4278-9881-3D25AE55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A21C7-E07E-41C2-B5DD-C46608ECB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58A42-64EB-4148-9785-FD7814CB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97E11-0F50-49D5-807F-924EC7C84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6DFAD-CF86-4951-A9B4-86CE79FD2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E7195-AE6B-474B-96C0-8EA9F2D4D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0570-4E50-4B1A-9241-D0CA153B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8734-ABA7-491B-B172-AA2CB614B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8FF8-CC02-4D5E-A4F8-1352E26FD3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3:55:50Z</dcterms:modified>
  <cp:revision>45</cp:revision>
  <dc:subject/>
  <dc:title>SALARIUL</dc:title>
</cp:coreProperties>
</file>